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12CF-1ECD-4B1C-BC82-2A336930B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0A70-7CB8-42E9-AD27-CE2D97F80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DEA4-6AEF-4B31-9729-582DCE651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4552-D1AB-49C4-A2D8-C6AB21AF1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8CA3-EA32-4E29-84F6-48BF9FF17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56F7-2B84-4184-BADD-768CCBD6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398D-3505-42EB-A3A9-1C3484E6F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71B1-9595-4298-BDEB-55159EDBB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A28D-2D6A-40C4-8C02-370C5DB11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966A-D6F5-4627-AAB5-B80AF455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28C9-A527-444B-995E-F0919E55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AB4E-9DB3-45EE-8EA1-5A33CF03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0FAA8-F22A-4764-92EA-0B7AD5DA7A9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476280" y="765000"/>
            <a:ext cx="819144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12600"/>
            <a:ext cx="9159840" cy="1228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395280" y="1916280"/>
            <a:ext cx="83804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72880" y="2205000"/>
            <a:ext cx="86662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الرعد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دن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اسم الرع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ورود ذكر الرعد في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20680" y="2852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</a:rPr>
              <a:t>الرعد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43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179280" y="34480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الرعد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د سورة محم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كمال قدرة الله تعال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رابط مستقيم 19"/>
          <p:cNvSpPr/>
          <p:nvPr/>
        </p:nvSpPr>
        <p:spPr>
          <a:xfrm flipH="1">
            <a:off x="8817120" y="1662120"/>
            <a:ext cx="2880" cy="2144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قرير قضية الوح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تقرير البعث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0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cxnSp>
        <p:nvCxnSpPr>
          <p:cNvPr id="63" name="رابط كسهم مستقيم 12"/>
          <p:cNvCxnSpPr/>
          <p:nvPr/>
        </p:nvCxnSpPr>
        <p:spPr>
          <a:xfrm flipH="1">
            <a:off x="8456040" y="33746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4" name="عنوان 1"/>
          <p:cNvSpPr/>
          <p:nvPr/>
        </p:nvSpPr>
        <p:spPr>
          <a:xfrm>
            <a:off x="250920" y="314172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استدلال بتوحيد الربوبية على توحيد الألوه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" name="رابط كسهم مستقيم 25"/>
          <p:cNvCxnSpPr/>
          <p:nvPr/>
        </p:nvCxnSpPr>
        <p:spPr>
          <a:xfrm flipH="1">
            <a:off x="8458920" y="3807000"/>
            <a:ext cx="361080" cy="3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6" name="عنوان 1"/>
          <p:cNvSpPr/>
          <p:nvPr/>
        </p:nvSpPr>
        <p:spPr>
          <a:xfrm>
            <a:off x="254160" y="3573360"/>
            <a:ext cx="8208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صفات السعداء والأشقياء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22T10:16:42Z</dcterms:modified>
  <cp:revision>1807</cp:revision>
  <dc:subject/>
  <dc:title>عرض تقديمي في PowerPoint</dc:title>
</cp:coreProperties>
</file>